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3516-8571-48E2-868C-25A3B2851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828C-32F0-4C86-A547-E05D51B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A2CA-37FC-4DF4-8B3B-6A34B41F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94EF-2F8E-4631-AB83-17D34AA47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00DA-F3E6-44C6-AEFE-9843709D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AA0-15DA-470B-8351-310E14F4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010-DCD6-4796-A13B-4AC5E355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FF77-AB9B-454B-8895-9A6927347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97F5-D37C-4C95-A7D5-F7BD6992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DBDF-8846-41C2-B2A4-C508C4E3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1B1C-C4F5-4F0A-A8B8-43D68335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C7C8-1A15-414A-BE62-3DF7157A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61A5409-68F7-416A-8B51-5F02B8316E5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ДЕР. ТАЛОВ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10» «мая»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 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7" descr="таловая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0" descr="таловая"/>
          <p:cNvPicPr/>
          <p:nvPr/>
        </p:nvPicPr>
        <p:blipFill>
          <a:blip r:embed="rId2"/>
          <a:stretch/>
        </p:blipFill>
        <p:spPr>
          <a:xfrm>
            <a:off x="0" y="119700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1"/>
          <p:cNvSpPr/>
          <p:nvPr/>
        </p:nvSpPr>
        <p:spPr>
          <a:xfrm rot="21301200">
            <a:off x="7775280" y="3789000"/>
            <a:ext cx="136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7   15 13 11 9   5   3   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82"/>
          <p:cNvSpPr/>
          <p:nvPr/>
        </p:nvSpPr>
        <p:spPr>
          <a:xfrm rot="21399600">
            <a:off x="7019640" y="3933720"/>
            <a:ext cx="704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3   21     1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3"/>
          <p:cNvSpPr/>
          <p:nvPr/>
        </p:nvSpPr>
        <p:spPr>
          <a:xfrm rot="562800">
            <a:off x="1824840" y="3643920"/>
            <a:ext cx="3311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79  77  75  73  7 1 69  67  65        59   57     55    47       41  39      35     3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4"/>
          <p:cNvSpPr/>
          <p:nvPr/>
        </p:nvSpPr>
        <p:spPr>
          <a:xfrm rot="21247800">
            <a:off x="5866920" y="400500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29   27    2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5"/>
          <p:cNvSpPr/>
          <p:nvPr/>
        </p:nvSpPr>
        <p:spPr>
          <a:xfrm rot="16200000">
            <a:off x="510840" y="4249800"/>
            <a:ext cx="200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01   97   95     93    91       87       8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6"/>
          <p:cNvSpPr/>
          <p:nvPr/>
        </p:nvSpPr>
        <p:spPr>
          <a:xfrm rot="351600">
            <a:off x="-107640" y="5013000"/>
            <a:ext cx="1265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13  111   107  105  1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7"/>
          <p:cNvSpPr/>
          <p:nvPr/>
        </p:nvSpPr>
        <p:spPr>
          <a:xfrm>
            <a:off x="0" y="4941720"/>
            <a:ext cx="97164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8"/>
          <p:cNvSpPr/>
          <p:nvPr/>
        </p:nvSpPr>
        <p:spPr>
          <a:xfrm>
            <a:off x="971640" y="5084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89"/>
          <p:cNvSpPr/>
          <p:nvPr/>
        </p:nvSpPr>
        <p:spPr>
          <a:xfrm rot="453000">
            <a:off x="171000" y="5444280"/>
            <a:ext cx="110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04   102    100       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0"/>
          <p:cNvSpPr/>
          <p:nvPr/>
        </p:nvSpPr>
        <p:spPr>
          <a:xfrm rot="592200">
            <a:off x="1752840" y="4075560"/>
            <a:ext cx="338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94 92 90 88 86 84 82 80 78    74  68  64    56     52  50  48         44  42          3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1"/>
          <p:cNvSpPr/>
          <p:nvPr/>
        </p:nvSpPr>
        <p:spPr>
          <a:xfrm rot="16048200">
            <a:off x="6037560" y="4915080"/>
            <a:ext cx="884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32               26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2"/>
          <p:cNvSpPr/>
          <p:nvPr/>
        </p:nvSpPr>
        <p:spPr>
          <a:xfrm rot="21298200">
            <a:off x="6480000" y="4221000"/>
            <a:ext cx="26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24       22      18     16       14               8                          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5"/>
          <p:cNvSpPr/>
          <p:nvPr/>
        </p:nvSpPr>
        <p:spPr>
          <a:xfrm>
            <a:off x="4284720" y="1844640"/>
            <a:ext cx="1725480" cy="606600"/>
          </a:xfrm>
          <a:prstGeom prst="wedgeRectCallout">
            <a:avLst>
              <a:gd name="adj1" fmla="val 63800"/>
              <a:gd name="adj2" fmla="val 382986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омсомоль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80 м от д.№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55"/>
          <p:cNvSpPr/>
          <p:nvPr/>
        </p:nvSpPr>
        <p:spPr>
          <a:xfrm rot="21372600">
            <a:off x="6086160" y="4501800"/>
            <a:ext cx="16020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27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НЫХ ТОРГОВЫХ ОБЪЕКТОВ НА  ТЕРРИТОРИИ   деревни ТАЛОВАЯ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verhhav</cp:lastModifiedBy>
  <dcterms:modified xsi:type="dcterms:W3CDTF">2018-05-10T12:55:44Z</dcterms:modified>
  <cp:revision>150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