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C77-5266-41C6-9D03-F9AD4732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A0C-0340-48C9-A23E-4B894D3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221-E6B6-4F7B-9ABB-0E772111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781-A531-4B79-88A9-A56CFA24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03F-B0BC-421B-ACCC-FE899459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3966-D190-4380-8007-BFEF04A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898-DB4B-4DE0-A5FF-7040991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223-604D-42CB-A298-B8C4451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239-DF47-4D72-AFDE-D97208CF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6A80-6759-418A-9E47-283F99D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5D4-CD0D-4374-A547-46E9219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3B9-8D67-4EB6-B2EB-9C7DB93A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BF7-369F-4A5D-8DBD-DD82C17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81C-1AB2-4369-AA26-4D62C03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3379-6AC7-4A2C-BEB2-75DC80F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FA6-8A6A-4A39-A6E7-8D8AA583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EB97-C2BC-4A93-A97F-F11978E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AA0-04F2-40C1-BB05-9169A5C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E5E-2EE6-482B-A3BD-59132AA9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F32-90E0-4EE5-8302-0704AFA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592-A805-46D5-B871-A7C16A1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5FE-B233-43DF-AC64-A6F92B2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42A-769F-4A59-8D5A-6AF52FA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F55-465E-4657-BC6C-D06BFF9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3C52FB-5BF4-4FA9-BBBC-B7EFC6E95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A04B93D-DA17-4E46-A33D-45B5A9940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С. ВЕРХНЯЯ Х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23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юля»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5"/>
          <p:cNvSpPr/>
          <p:nvPr/>
        </p:nvSpPr>
        <p:spPr>
          <a:xfrm flipV="1" rot="5477400">
            <a:off x="88524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оугольник 55"/>
          <p:cNvSpPr/>
          <p:nvPr/>
        </p:nvSpPr>
        <p:spPr>
          <a:xfrm rot="5476800">
            <a:off x="1150200" y="598860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05"/>
          <p:cNvSpPr/>
          <p:nvPr/>
        </p:nvSpPr>
        <p:spPr>
          <a:xfrm flipH="1">
            <a:off x="2194920" y="4437000"/>
            <a:ext cx="1439640" cy="504720"/>
          </a:xfrm>
          <a:prstGeom prst="wedgeRectCallout">
            <a:avLst>
              <a:gd name="adj1" fmla="val 118532"/>
              <a:gd name="adj2" fmla="val 26439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рядом с домом 15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05"/>
          <p:cNvSpPr/>
          <p:nvPr/>
        </p:nvSpPr>
        <p:spPr>
          <a:xfrm flipH="1">
            <a:off x="538920" y="4508640"/>
            <a:ext cx="1295640" cy="433080"/>
          </a:xfrm>
          <a:prstGeom prst="wedgeRectCallout">
            <a:avLst>
              <a:gd name="adj1" fmla="val 16074"/>
              <a:gd name="adj2" fmla="val 3367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Буденного рядом с домом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оугольник 55"/>
          <p:cNvSpPr/>
          <p:nvPr/>
        </p:nvSpPr>
        <p:spPr>
          <a:xfrm flipV="1" rot="5477400">
            <a:off x="88668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55"/>
          <p:cNvSpPr/>
          <p:nvPr/>
        </p:nvSpPr>
        <p:spPr>
          <a:xfrm flipH="1" rot="5477400">
            <a:off x="997560" y="5997600"/>
            <a:ext cx="96840" cy="1461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9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8748720" cy="5554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55"/>
          <p:cNvSpPr/>
          <p:nvPr/>
        </p:nvSpPr>
        <p:spPr>
          <a:xfrm flipH="1" flipV="1" rot="2034000">
            <a:off x="7028280" y="1132560"/>
            <a:ext cx="46080" cy="460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 flipH="1">
            <a:off x="4210920" y="364500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5"/>
          <p:cNvSpPr/>
          <p:nvPr/>
        </p:nvSpPr>
        <p:spPr>
          <a:xfrm flipH="1" flipV="1" rot="2034000">
            <a:off x="8184960" y="2068560"/>
            <a:ext cx="45720" cy="58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 flipH="1">
            <a:off x="6587280" y="5084640"/>
            <a:ext cx="1584360" cy="649440"/>
          </a:xfrm>
          <a:prstGeom prst="wedgeRectCallout">
            <a:avLst>
              <a:gd name="adj1" fmla="val -62402"/>
              <a:gd name="adj2" fmla="val -49284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ельный участок,59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5"/>
          <p:cNvSpPr/>
          <p:nvPr/>
        </p:nvSpPr>
        <p:spPr>
          <a:xfrm rot="2034000">
            <a:off x="8337240" y="2220840"/>
            <a:ext cx="90360" cy="1126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2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admin</cp:lastModifiedBy>
  <cp:lastPrinted>2018-05-11T05:22:56Z</cp:lastPrinted>
  <dcterms:modified xsi:type="dcterms:W3CDTF">2018-07-20T07:07:07Z</dcterms:modified>
  <cp:revision>166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