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A41-3679-412D-B28E-15AB419A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1DE-968B-479A-BFC4-7011733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38C-D303-4992-9BBF-95136E37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2DA-50B7-4B23-98E0-2A773620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EA5-CFEF-422D-ABA9-7EA42BA3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A2F-12BB-4932-B03C-3FAF6BE4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EAB-9A20-481A-80B4-D9CD6897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A1D-B5BF-484F-BE5B-AAE97D60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BB9-C6ED-4EC8-A9B7-0947F20F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A44-95F0-42CE-A41E-2C5F8DD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254-4464-40CD-A6BD-9F1C8EF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E9F-4E04-49B6-97A8-77B0273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75FDAB2-A78B-41F0-B484-9B08126CF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ДЕР. ТАЛОВ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23» «июля» 2018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 1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7" descr="таловая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0" descr="таловая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1"/>
          <p:cNvSpPr/>
          <p:nvPr/>
        </p:nvSpPr>
        <p:spPr>
          <a:xfrm rot="21301200">
            <a:off x="7775280" y="3789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7   15 13 11 9   5   3   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2"/>
          <p:cNvSpPr/>
          <p:nvPr/>
        </p:nvSpPr>
        <p:spPr>
          <a:xfrm rot="21399600">
            <a:off x="7019640" y="393372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   21  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 rot="562800">
            <a:off x="1824840" y="3643920"/>
            <a:ext cx="33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79  77  75  73  7 1 69  67  65        59   57     55    47       41  39      35     3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4"/>
          <p:cNvSpPr/>
          <p:nvPr/>
        </p:nvSpPr>
        <p:spPr>
          <a:xfrm rot="21247800">
            <a:off x="5866920" y="400500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9   27    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5"/>
          <p:cNvSpPr/>
          <p:nvPr/>
        </p:nvSpPr>
        <p:spPr>
          <a:xfrm rot="16200000">
            <a:off x="510840" y="4249800"/>
            <a:ext cx="200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1   97   95     93    91       87      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6"/>
          <p:cNvSpPr/>
          <p:nvPr/>
        </p:nvSpPr>
        <p:spPr>
          <a:xfrm rot="351600">
            <a:off x="-107640" y="5013000"/>
            <a:ext cx="126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3  111   107  105  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7"/>
          <p:cNvSpPr/>
          <p:nvPr/>
        </p:nvSpPr>
        <p:spPr>
          <a:xfrm>
            <a:off x="0" y="4941720"/>
            <a:ext cx="9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8"/>
          <p:cNvSpPr/>
          <p:nvPr/>
        </p:nvSpPr>
        <p:spPr>
          <a:xfrm>
            <a:off x="97164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 rot="453000">
            <a:off x="171000" y="544428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4   102    100      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0"/>
          <p:cNvSpPr/>
          <p:nvPr/>
        </p:nvSpPr>
        <p:spPr>
          <a:xfrm rot="592200">
            <a:off x="1752840" y="407556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94 92 90 88 86 84 82 80 78    74  68  64    56     52  50  48         44  42          3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1"/>
          <p:cNvSpPr/>
          <p:nvPr/>
        </p:nvSpPr>
        <p:spPr>
          <a:xfrm rot="16048200">
            <a:off x="6037560" y="491508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2               26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2"/>
          <p:cNvSpPr/>
          <p:nvPr/>
        </p:nvSpPr>
        <p:spPr>
          <a:xfrm rot="21298200">
            <a:off x="6480000" y="422100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24       22      18     16       14               8                         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5"/>
          <p:cNvSpPr/>
          <p:nvPr/>
        </p:nvSpPr>
        <p:spPr>
          <a:xfrm>
            <a:off x="4284720" y="1844640"/>
            <a:ext cx="1725480" cy="606600"/>
          </a:xfrm>
          <a:prstGeom prst="wedgeRectCallout">
            <a:avLst>
              <a:gd name="adj1" fmla="val 63800"/>
              <a:gd name="adj2" fmla="val 3829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омсомоль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80 м от д.№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55"/>
          <p:cNvSpPr/>
          <p:nvPr/>
        </p:nvSpPr>
        <p:spPr>
          <a:xfrm rot="21372600">
            <a:off x="6086160" y="4501800"/>
            <a:ext cx="16020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7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деревни ТАЛОВАЯ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dcterms:modified xsi:type="dcterms:W3CDTF">2018-07-20T07:07:35Z</dcterms:modified>
  <cp:revision>151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