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D4B-7B48-48A8-A23C-D5F1C8E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ED7-BB76-468A-8115-C613644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41E-66D5-4553-87DE-1F0B51F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E60-086A-4E6C-80E5-52F32B48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433-60F5-40D2-BC94-8C9CA1E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F95-A99C-4AE2-9ECE-6CFAB36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D66-9E64-499F-A551-8619ACE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135-81BE-4B55-B1B7-B4FC10A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AD8-FE93-4EF0-AF8F-615827AA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27C-9885-4596-BA9C-C823411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D1B-CBDB-4813-87E4-F8D60BC4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0E3-CD72-4204-B978-3A7B854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1B94B16-7CB6-457F-8116-06B137E2B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ДЕР. ТАЛОВ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7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я» 2016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7" descr="таловая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0" descr="таловая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1"/>
          <p:cNvSpPr/>
          <p:nvPr/>
        </p:nvSpPr>
        <p:spPr>
          <a:xfrm rot="21301200">
            <a:off x="7775280" y="3789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7   15 13 11 9   5   3   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2"/>
          <p:cNvSpPr/>
          <p:nvPr/>
        </p:nvSpPr>
        <p:spPr>
          <a:xfrm rot="21399600">
            <a:off x="7019640" y="393372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   21  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 rot="562800">
            <a:off x="1824840" y="3643920"/>
            <a:ext cx="33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79  77  75  73  7 1 69  67  65        59   57     55    47       41  39      35     3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4"/>
          <p:cNvSpPr/>
          <p:nvPr/>
        </p:nvSpPr>
        <p:spPr>
          <a:xfrm rot="21247800">
            <a:off x="5866920" y="400500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9   27    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5"/>
          <p:cNvSpPr/>
          <p:nvPr/>
        </p:nvSpPr>
        <p:spPr>
          <a:xfrm rot="16200000">
            <a:off x="510840" y="4249800"/>
            <a:ext cx="200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1   97   95     93    91       87      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6"/>
          <p:cNvSpPr/>
          <p:nvPr/>
        </p:nvSpPr>
        <p:spPr>
          <a:xfrm rot="351600">
            <a:off x="-107640" y="5013000"/>
            <a:ext cx="126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3  111   107  105  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7"/>
          <p:cNvSpPr/>
          <p:nvPr/>
        </p:nvSpPr>
        <p:spPr>
          <a:xfrm>
            <a:off x="0" y="4941720"/>
            <a:ext cx="9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8"/>
          <p:cNvSpPr/>
          <p:nvPr/>
        </p:nvSpPr>
        <p:spPr>
          <a:xfrm>
            <a:off x="97164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 rot="453000">
            <a:off x="171000" y="544428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4   102    100      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0"/>
          <p:cNvSpPr/>
          <p:nvPr/>
        </p:nvSpPr>
        <p:spPr>
          <a:xfrm rot="592200">
            <a:off x="1752840" y="407556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94 92 90 88 86 84 82 80 78    74  68  64    56     52  50  48         44  42          3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1"/>
          <p:cNvSpPr/>
          <p:nvPr/>
        </p:nvSpPr>
        <p:spPr>
          <a:xfrm rot="16048200">
            <a:off x="6037560" y="491508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2               26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2"/>
          <p:cNvSpPr/>
          <p:nvPr/>
        </p:nvSpPr>
        <p:spPr>
          <a:xfrm rot="21298200">
            <a:off x="6480000" y="422100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24       22      18     16       14               8                         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5"/>
          <p:cNvSpPr/>
          <p:nvPr/>
        </p:nvSpPr>
        <p:spPr>
          <a:xfrm>
            <a:off x="4284720" y="1844640"/>
            <a:ext cx="1725480" cy="606600"/>
          </a:xfrm>
          <a:prstGeom prst="wedgeRectCallout">
            <a:avLst>
              <a:gd name="adj1" fmla="val 63800"/>
              <a:gd name="adj2" fmla="val 3829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омсомоль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80 м от д.№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55"/>
          <p:cNvSpPr/>
          <p:nvPr/>
        </p:nvSpPr>
        <p:spPr>
          <a:xfrm rot="21372600">
            <a:off x="6086160" y="4501800"/>
            <a:ext cx="16020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7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деревни ТАЛОВАЯ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dcterms:modified xsi:type="dcterms:W3CDTF">2016-12-07T07:43:02Z</dcterms:modified>
  <cp:revision>149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