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297-523F-43A7-889E-147D4815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749-A641-42E4-A883-94CDABFC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FAE-0F34-4905-B9AF-0B13E8E7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8C5-8530-4F55-A20F-61E2B1E9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B524-1587-498F-B14C-C7925C9E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5ACF-D11F-4748-B349-EC23A002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E43A-BAA4-4DBA-80C5-56816A84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9889-50AA-49C7-8066-7CF85DD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422F-091E-46C5-95E4-59802F02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9E38-5FAE-4474-9444-AA152BED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B925-177C-4943-822F-4C8456B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D35-4490-449E-BD82-D8747EF4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AAD2-8EBA-42CC-8EB2-125C5BBD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D926-3A7C-4C80-88C4-3F010E5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9618-2AF4-4BDF-AC7E-D22D5841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0E40-FBE1-41F9-B091-A625AB37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F55C-3068-4C73-B971-0E2881E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75D-F88E-4975-A994-782594F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DEB-5B8D-48C4-AAA7-9C3F9ACB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6F0-D84A-4B0C-92C1-C4C91EC8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470-1936-462D-A77D-BE92C3C8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86B-B958-421D-A469-BA5F325D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094-452F-486B-A245-AAF4ABE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38E-99DD-4480-8E35-A4E5AE9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46B46FD-0315-42B5-B617-3A55A22E1B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409E3F1-0127-400E-B377-2126B0DBE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С. ВЕРХНЯЯ Х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7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я» 2016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3"/>
          <p:cNvSpPr/>
          <p:nvPr/>
        </p:nvSpPr>
        <p:spPr>
          <a:xfrm>
            <a:off x="1258920" y="1268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 rot="17029200">
            <a:off x="3599640" y="382464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 rot="17332200">
            <a:off x="4915440" y="2550240"/>
            <a:ext cx="263520" cy="1297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оугольник 51"/>
          <p:cNvSpPr/>
          <p:nvPr/>
        </p:nvSpPr>
        <p:spPr>
          <a:xfrm rot="740400">
            <a:off x="1549080" y="1012680"/>
            <a:ext cx="100800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55"/>
          <p:cNvSpPr/>
          <p:nvPr/>
        </p:nvSpPr>
        <p:spPr>
          <a:xfrm flipV="1" rot="4912200">
            <a:off x="268920" y="4699440"/>
            <a:ext cx="360360" cy="11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55"/>
          <p:cNvSpPr/>
          <p:nvPr/>
        </p:nvSpPr>
        <p:spPr>
          <a:xfrm flipV="1" rot="4854600">
            <a:off x="351360" y="4329360"/>
            <a:ext cx="141120" cy="727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000" bIns="27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55"/>
          <p:cNvSpPr/>
          <p:nvPr/>
        </p:nvSpPr>
        <p:spPr>
          <a:xfrm flipV="1" rot="675600">
            <a:off x="468000" y="2565360"/>
            <a:ext cx="360360" cy="155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1"/>
          <p:cNvSpPr/>
          <p:nvPr/>
        </p:nvSpPr>
        <p:spPr>
          <a:xfrm rot="5400000">
            <a:off x="123840" y="4419360"/>
            <a:ext cx="323640" cy="698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51"/>
          <p:cNvSpPr/>
          <p:nvPr/>
        </p:nvSpPr>
        <p:spPr>
          <a:xfrm flipH="1" rot="16200000">
            <a:off x="-90360" y="4599000"/>
            <a:ext cx="360360" cy="17928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51"/>
          <p:cNvSpPr/>
          <p:nvPr/>
        </p:nvSpPr>
        <p:spPr>
          <a:xfrm rot="19335600">
            <a:off x="1179360" y="1535040"/>
            <a:ext cx="1224000" cy="2732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51"/>
          <p:cNvSpPr/>
          <p:nvPr/>
        </p:nvSpPr>
        <p:spPr>
          <a:xfrm rot="199200">
            <a:off x="1440" y="1915920"/>
            <a:ext cx="13687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51"/>
          <p:cNvSpPr/>
          <p:nvPr/>
        </p:nvSpPr>
        <p:spPr>
          <a:xfrm rot="4791600">
            <a:off x="2007360" y="6123600"/>
            <a:ext cx="12049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51"/>
          <p:cNvSpPr/>
          <p:nvPr/>
        </p:nvSpPr>
        <p:spPr>
          <a:xfrm rot="18148200">
            <a:off x="1568520" y="391248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51"/>
          <p:cNvSpPr/>
          <p:nvPr/>
        </p:nvSpPr>
        <p:spPr>
          <a:xfrm rot="18014400">
            <a:off x="1494360" y="2797920"/>
            <a:ext cx="21607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241128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2411280" y="4076640"/>
            <a:ext cx="64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51"/>
          <p:cNvSpPr/>
          <p:nvPr/>
        </p:nvSpPr>
        <p:spPr>
          <a:xfrm rot="18148200">
            <a:off x="2503440" y="441576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51"/>
          <p:cNvSpPr/>
          <p:nvPr/>
        </p:nvSpPr>
        <p:spPr>
          <a:xfrm rot="18148200">
            <a:off x="3727440" y="232812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51"/>
          <p:cNvSpPr/>
          <p:nvPr/>
        </p:nvSpPr>
        <p:spPr>
          <a:xfrm rot="18148200">
            <a:off x="2809800" y="3971880"/>
            <a:ext cx="501840" cy="285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5"/>
          <p:cNvSpPr/>
          <p:nvPr/>
        </p:nvSpPr>
        <p:spPr>
          <a:xfrm rot="17683800">
            <a:off x="4008240" y="1935000"/>
            <a:ext cx="217440" cy="303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6"/>
          <p:cNvSpPr/>
          <p:nvPr/>
        </p:nvSpPr>
        <p:spPr>
          <a:xfrm rot="16675800">
            <a:off x="977760" y="835920"/>
            <a:ext cx="215640" cy="64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7"/>
          <p:cNvSpPr/>
          <p:nvPr/>
        </p:nvSpPr>
        <p:spPr>
          <a:xfrm rot="17029200">
            <a:off x="35640" y="375336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51"/>
          <p:cNvSpPr/>
          <p:nvPr/>
        </p:nvSpPr>
        <p:spPr>
          <a:xfrm rot="18622800">
            <a:off x="761040" y="2126160"/>
            <a:ext cx="280836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51"/>
          <p:cNvSpPr/>
          <p:nvPr/>
        </p:nvSpPr>
        <p:spPr>
          <a:xfrm rot="15192600">
            <a:off x="1022040" y="2402640"/>
            <a:ext cx="96840" cy="17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1"/>
          <p:cNvSpPr/>
          <p:nvPr/>
        </p:nvSpPr>
        <p:spPr>
          <a:xfrm rot="15466200">
            <a:off x="-135360" y="5654880"/>
            <a:ext cx="2158920" cy="236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51"/>
          <p:cNvSpPr/>
          <p:nvPr/>
        </p:nvSpPr>
        <p:spPr>
          <a:xfrm rot="13648800">
            <a:off x="3551760" y="1348200"/>
            <a:ext cx="147312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51"/>
          <p:cNvSpPr/>
          <p:nvPr/>
        </p:nvSpPr>
        <p:spPr>
          <a:xfrm rot="15765600">
            <a:off x="869040" y="3705840"/>
            <a:ext cx="884160" cy="33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51"/>
          <p:cNvSpPr/>
          <p:nvPr/>
        </p:nvSpPr>
        <p:spPr>
          <a:xfrm>
            <a:off x="0" y="1052640"/>
            <a:ext cx="7873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4"/>
          <p:cNvSpPr/>
          <p:nvPr/>
        </p:nvSpPr>
        <p:spPr>
          <a:xfrm rot="18214200">
            <a:off x="7061040" y="2486160"/>
            <a:ext cx="12528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5"/>
          <p:cNvSpPr/>
          <p:nvPr/>
        </p:nvSpPr>
        <p:spPr>
          <a:xfrm rot="17897400">
            <a:off x="3134520" y="3640320"/>
            <a:ext cx="152280" cy="3031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6"/>
          <p:cNvSpPr/>
          <p:nvPr/>
        </p:nvSpPr>
        <p:spPr>
          <a:xfrm rot="17974200">
            <a:off x="3759840" y="2567520"/>
            <a:ext cx="1447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7"/>
          <p:cNvSpPr/>
          <p:nvPr/>
        </p:nvSpPr>
        <p:spPr>
          <a:xfrm rot="18373800">
            <a:off x="6303960" y="3466800"/>
            <a:ext cx="361800" cy="2919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8"/>
          <p:cNvSpPr/>
          <p:nvPr/>
        </p:nvSpPr>
        <p:spPr>
          <a:xfrm rot="16011000">
            <a:off x="7331760" y="5719680"/>
            <a:ext cx="196920" cy="405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1"/>
          <p:cNvSpPr/>
          <p:nvPr/>
        </p:nvSpPr>
        <p:spPr>
          <a:xfrm rot="6972000">
            <a:off x="2969640" y="3085920"/>
            <a:ext cx="1087560" cy="331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51"/>
          <p:cNvSpPr/>
          <p:nvPr/>
        </p:nvSpPr>
        <p:spPr>
          <a:xfrm rot="11291400">
            <a:off x="7164360" y="5353920"/>
            <a:ext cx="12240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51"/>
          <p:cNvSpPr/>
          <p:nvPr/>
        </p:nvSpPr>
        <p:spPr>
          <a:xfrm rot="11639400">
            <a:off x="8534520" y="4503240"/>
            <a:ext cx="612720" cy="252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51"/>
          <p:cNvSpPr/>
          <p:nvPr/>
        </p:nvSpPr>
        <p:spPr>
          <a:xfrm rot="13042200">
            <a:off x="7745040" y="2309760"/>
            <a:ext cx="1558800" cy="341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51"/>
          <p:cNvSpPr/>
          <p:nvPr/>
        </p:nvSpPr>
        <p:spPr>
          <a:xfrm rot="12756000">
            <a:off x="7067160" y="1657080"/>
            <a:ext cx="76680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51"/>
          <p:cNvSpPr/>
          <p:nvPr/>
        </p:nvSpPr>
        <p:spPr>
          <a:xfrm flipH="1" rot="7515600">
            <a:off x="2402280" y="518580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51"/>
          <p:cNvSpPr/>
          <p:nvPr/>
        </p:nvSpPr>
        <p:spPr>
          <a:xfrm rot="14882400">
            <a:off x="3513240" y="6192720"/>
            <a:ext cx="1123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51"/>
          <p:cNvSpPr/>
          <p:nvPr/>
        </p:nvSpPr>
        <p:spPr>
          <a:xfrm rot="15866400">
            <a:off x="5993640" y="5766480"/>
            <a:ext cx="1830240" cy="352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51"/>
          <p:cNvSpPr/>
          <p:nvPr/>
        </p:nvSpPr>
        <p:spPr>
          <a:xfrm flipH="1" rot="7515600">
            <a:off x="6479280" y="2889000"/>
            <a:ext cx="79200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51"/>
          <p:cNvSpPr/>
          <p:nvPr/>
        </p:nvSpPr>
        <p:spPr>
          <a:xfrm flipH="1" rot="7515600">
            <a:off x="6766560" y="310464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51"/>
          <p:cNvSpPr/>
          <p:nvPr/>
        </p:nvSpPr>
        <p:spPr>
          <a:xfrm flipH="1" rot="7271400">
            <a:off x="1888200" y="5061960"/>
            <a:ext cx="1065240" cy="277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51"/>
          <p:cNvSpPr/>
          <p:nvPr/>
        </p:nvSpPr>
        <p:spPr>
          <a:xfrm rot="18633600">
            <a:off x="5854320" y="2399760"/>
            <a:ext cx="10810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51"/>
          <p:cNvSpPr/>
          <p:nvPr/>
        </p:nvSpPr>
        <p:spPr>
          <a:xfrm rot="18310200">
            <a:off x="7148160" y="2365560"/>
            <a:ext cx="30024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51"/>
          <p:cNvSpPr/>
          <p:nvPr/>
        </p:nvSpPr>
        <p:spPr>
          <a:xfrm rot="7927200">
            <a:off x="5750280" y="1856520"/>
            <a:ext cx="1079280" cy="293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"/>
          <p:cNvSpPr/>
          <p:nvPr/>
        </p:nvSpPr>
        <p:spPr>
          <a:xfrm rot="18383400">
            <a:off x="6701760" y="1873800"/>
            <a:ext cx="2203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4"/>
          <p:cNvSpPr/>
          <p:nvPr/>
        </p:nvSpPr>
        <p:spPr>
          <a:xfrm rot="19828800">
            <a:off x="6958080" y="1103040"/>
            <a:ext cx="26028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5"/>
          <p:cNvSpPr/>
          <p:nvPr/>
        </p:nvSpPr>
        <p:spPr>
          <a:xfrm rot="19162200">
            <a:off x="6588000" y="1341000"/>
            <a:ext cx="362160" cy="2923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51"/>
          <p:cNvSpPr/>
          <p:nvPr/>
        </p:nvSpPr>
        <p:spPr>
          <a:xfrm rot="188400">
            <a:off x="7164360" y="5589720"/>
            <a:ext cx="534960" cy="164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51"/>
          <p:cNvSpPr/>
          <p:nvPr/>
        </p:nvSpPr>
        <p:spPr>
          <a:xfrm rot="1325400">
            <a:off x="8115120" y="5944680"/>
            <a:ext cx="1019160" cy="2113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51"/>
          <p:cNvSpPr/>
          <p:nvPr/>
        </p:nvSpPr>
        <p:spPr>
          <a:xfrm rot="18148200">
            <a:off x="6962040" y="1656360"/>
            <a:ext cx="2286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9"/>
          <p:cNvSpPr/>
          <p:nvPr/>
        </p:nvSpPr>
        <p:spPr>
          <a:xfrm rot="16701600">
            <a:off x="7943040" y="5747400"/>
            <a:ext cx="225360" cy="19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51"/>
          <p:cNvSpPr/>
          <p:nvPr/>
        </p:nvSpPr>
        <p:spPr>
          <a:xfrm rot="10800000">
            <a:off x="3851280" y="3933720"/>
            <a:ext cx="9367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1"/>
          <p:cNvSpPr/>
          <p:nvPr/>
        </p:nvSpPr>
        <p:spPr>
          <a:xfrm rot="10800000">
            <a:off x="4067280" y="3573000"/>
            <a:ext cx="612720" cy="252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53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3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18"/>
          <p:cNvSpPr/>
          <p:nvPr/>
        </p:nvSpPr>
        <p:spPr>
          <a:xfrm>
            <a:off x="179280" y="2852640"/>
            <a:ext cx="1368360" cy="503280"/>
          </a:xfrm>
          <a:prstGeom prst="wedgeRectCallout">
            <a:avLst>
              <a:gd name="adj1" fmla="val -24476"/>
              <a:gd name="adj2" fmla="val -875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МУП Автотранспортное предприятие «Верхнехавское ПАП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908000" y="2565360"/>
            <a:ext cx="2016360" cy="287280"/>
          </a:xfrm>
          <a:prstGeom prst="wedgeRectCallout">
            <a:avLst>
              <a:gd name="adj1" fmla="val -90717"/>
              <a:gd name="adj2" fmla="val -89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л. Привокзальная,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53"/>
          <p:cNvSpPr/>
          <p:nvPr/>
        </p:nvSpPr>
        <p:spPr>
          <a:xfrm>
            <a:off x="0" y="-171360"/>
            <a:ext cx="896472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 rot="16793400">
            <a:off x="4210200" y="982440"/>
            <a:ext cx="215640" cy="1796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51"/>
          <p:cNvSpPr/>
          <p:nvPr/>
        </p:nvSpPr>
        <p:spPr>
          <a:xfrm rot="17916000">
            <a:off x="5965560" y="4843440"/>
            <a:ext cx="224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51"/>
          <p:cNvSpPr/>
          <p:nvPr/>
        </p:nvSpPr>
        <p:spPr>
          <a:xfrm rot="1756800">
            <a:off x="2195280" y="4005000"/>
            <a:ext cx="35856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51"/>
          <p:cNvSpPr/>
          <p:nvPr/>
        </p:nvSpPr>
        <p:spPr>
          <a:xfrm rot="1092600">
            <a:off x="6807240" y="6357600"/>
            <a:ext cx="21600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8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51"/>
          <p:cNvSpPr/>
          <p:nvPr/>
        </p:nvSpPr>
        <p:spPr>
          <a:xfrm rot="17064600">
            <a:off x="-220680" y="3505320"/>
            <a:ext cx="720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Прямоугольник 51"/>
          <p:cNvSpPr/>
          <p:nvPr/>
        </p:nvSpPr>
        <p:spPr>
          <a:xfrm rot="12044400">
            <a:off x="-6480" y="2928600"/>
            <a:ext cx="1676520" cy="176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рямоугольник 51"/>
          <p:cNvSpPr/>
          <p:nvPr/>
        </p:nvSpPr>
        <p:spPr>
          <a:xfrm rot="11491800">
            <a:off x="5574600" y="1456920"/>
            <a:ext cx="1730520" cy="314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8"/>
          <p:cNvSpPr/>
          <p:nvPr/>
        </p:nvSpPr>
        <p:spPr>
          <a:xfrm rot="16793400">
            <a:off x="5471280" y="152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9"/>
          <p:cNvSpPr/>
          <p:nvPr/>
        </p:nvSpPr>
        <p:spPr>
          <a:xfrm rot="16793400">
            <a:off x="1222920" y="2456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0"/>
          <p:cNvSpPr/>
          <p:nvPr/>
        </p:nvSpPr>
        <p:spPr>
          <a:xfrm rot="16793400">
            <a:off x="646560" y="245664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1"/>
          <p:cNvSpPr/>
          <p:nvPr/>
        </p:nvSpPr>
        <p:spPr>
          <a:xfrm rot="16793400">
            <a:off x="7522560" y="1057680"/>
            <a:ext cx="144360" cy="1429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2"/>
          <p:cNvSpPr/>
          <p:nvPr/>
        </p:nvSpPr>
        <p:spPr>
          <a:xfrm rot="16793400">
            <a:off x="7487280" y="1232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3"/>
          <p:cNvSpPr/>
          <p:nvPr/>
        </p:nvSpPr>
        <p:spPr>
          <a:xfrm rot="16793400">
            <a:off x="7128360" y="108972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4"/>
          <p:cNvSpPr/>
          <p:nvPr/>
        </p:nvSpPr>
        <p:spPr>
          <a:xfrm rot="19344000">
            <a:off x="5148000" y="3284280"/>
            <a:ext cx="236520" cy="2714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35"/>
          <p:cNvSpPr/>
          <p:nvPr/>
        </p:nvSpPr>
        <p:spPr>
          <a:xfrm rot="17472000">
            <a:off x="2017440" y="5047560"/>
            <a:ext cx="204840" cy="424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6"/>
          <p:cNvSpPr/>
          <p:nvPr/>
        </p:nvSpPr>
        <p:spPr>
          <a:xfrm rot="16793400">
            <a:off x="214920" y="296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51"/>
          <p:cNvSpPr/>
          <p:nvPr/>
        </p:nvSpPr>
        <p:spPr>
          <a:xfrm rot="17916000">
            <a:off x="483120" y="2980080"/>
            <a:ext cx="14436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1"/>
          <p:cNvSpPr/>
          <p:nvPr/>
        </p:nvSpPr>
        <p:spPr>
          <a:xfrm rot="1404000">
            <a:off x="896760" y="2651040"/>
            <a:ext cx="613080" cy="181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51"/>
          <p:cNvSpPr/>
          <p:nvPr/>
        </p:nvSpPr>
        <p:spPr>
          <a:xfrm rot="18252000">
            <a:off x="1837080" y="2954880"/>
            <a:ext cx="1366920" cy="22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51"/>
          <p:cNvSpPr/>
          <p:nvPr/>
        </p:nvSpPr>
        <p:spPr>
          <a:xfrm rot="17994000">
            <a:off x="2176920" y="3125160"/>
            <a:ext cx="1441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1"/>
          <p:cNvSpPr/>
          <p:nvPr/>
        </p:nvSpPr>
        <p:spPr>
          <a:xfrm>
            <a:off x="324000" y="3284640"/>
            <a:ext cx="64764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51"/>
          <p:cNvSpPr/>
          <p:nvPr/>
        </p:nvSpPr>
        <p:spPr>
          <a:xfrm rot="1291800">
            <a:off x="1125000" y="3514320"/>
            <a:ext cx="61596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51"/>
          <p:cNvSpPr/>
          <p:nvPr/>
        </p:nvSpPr>
        <p:spPr>
          <a:xfrm rot="17928600">
            <a:off x="1062000" y="4163760"/>
            <a:ext cx="1068480" cy="214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51"/>
          <p:cNvSpPr/>
          <p:nvPr/>
        </p:nvSpPr>
        <p:spPr>
          <a:xfrm rot="12187800">
            <a:off x="539280" y="4724280"/>
            <a:ext cx="366840" cy="1908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оугольник 51"/>
          <p:cNvSpPr/>
          <p:nvPr/>
        </p:nvSpPr>
        <p:spPr>
          <a:xfrm rot="7023000">
            <a:off x="700200" y="4583880"/>
            <a:ext cx="14292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51"/>
          <p:cNvSpPr/>
          <p:nvPr/>
        </p:nvSpPr>
        <p:spPr>
          <a:xfrm rot="7023000">
            <a:off x="818640" y="4412880"/>
            <a:ext cx="176040" cy="2142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оугольник 51"/>
          <p:cNvSpPr/>
          <p:nvPr/>
        </p:nvSpPr>
        <p:spPr>
          <a:xfrm rot="17916000">
            <a:off x="342720" y="4633560"/>
            <a:ext cx="174600" cy="212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51"/>
          <p:cNvSpPr/>
          <p:nvPr/>
        </p:nvSpPr>
        <p:spPr>
          <a:xfrm rot="17916000">
            <a:off x="5630040" y="4580640"/>
            <a:ext cx="23875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51"/>
          <p:cNvSpPr/>
          <p:nvPr/>
        </p:nvSpPr>
        <p:spPr>
          <a:xfrm rot="1045200">
            <a:off x="7560" y="5013000"/>
            <a:ext cx="1258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1"/>
          <p:cNvSpPr/>
          <p:nvPr/>
        </p:nvSpPr>
        <p:spPr>
          <a:xfrm rot="17916000">
            <a:off x="900000" y="4868280"/>
            <a:ext cx="144360" cy="144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51"/>
          <p:cNvSpPr/>
          <p:nvPr/>
        </p:nvSpPr>
        <p:spPr>
          <a:xfrm rot="17916000">
            <a:off x="1069200" y="4785120"/>
            <a:ext cx="36036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6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51"/>
          <p:cNvSpPr/>
          <p:nvPr/>
        </p:nvSpPr>
        <p:spPr>
          <a:xfrm rot="17877000">
            <a:off x="1325520" y="5222520"/>
            <a:ext cx="73368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51"/>
          <p:cNvSpPr/>
          <p:nvPr/>
        </p:nvSpPr>
        <p:spPr>
          <a:xfrm rot="16048800">
            <a:off x="1991160" y="6439320"/>
            <a:ext cx="620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51"/>
          <p:cNvSpPr/>
          <p:nvPr/>
        </p:nvSpPr>
        <p:spPr>
          <a:xfrm rot="21471000">
            <a:off x="1547280" y="6524640"/>
            <a:ext cx="547920" cy="177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51"/>
          <p:cNvSpPr/>
          <p:nvPr/>
        </p:nvSpPr>
        <p:spPr>
          <a:xfrm rot="1194600">
            <a:off x="2697120" y="5423040"/>
            <a:ext cx="4320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51"/>
          <p:cNvSpPr/>
          <p:nvPr/>
        </p:nvSpPr>
        <p:spPr>
          <a:xfrm rot="535200">
            <a:off x="2268360" y="6021000"/>
            <a:ext cx="28908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51"/>
          <p:cNvSpPr/>
          <p:nvPr/>
        </p:nvSpPr>
        <p:spPr>
          <a:xfrm rot="21471000">
            <a:off x="2411280" y="6308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3"/>
          <p:cNvSpPr/>
          <p:nvPr/>
        </p:nvSpPr>
        <p:spPr>
          <a:xfrm rot="1298400">
            <a:off x="2843280" y="5444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51"/>
          <p:cNvSpPr/>
          <p:nvPr/>
        </p:nvSpPr>
        <p:spPr>
          <a:xfrm rot="21471000">
            <a:off x="2627280" y="6524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51"/>
          <p:cNvSpPr/>
          <p:nvPr/>
        </p:nvSpPr>
        <p:spPr>
          <a:xfrm rot="1187400">
            <a:off x="2487240" y="5325840"/>
            <a:ext cx="19692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6"/>
          <p:cNvSpPr/>
          <p:nvPr/>
        </p:nvSpPr>
        <p:spPr>
          <a:xfrm rot="17635200">
            <a:off x="2422440" y="5290920"/>
            <a:ext cx="33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51"/>
          <p:cNvSpPr/>
          <p:nvPr/>
        </p:nvSpPr>
        <p:spPr>
          <a:xfrm rot="18033000">
            <a:off x="1661400" y="441576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 51"/>
          <p:cNvSpPr/>
          <p:nvPr/>
        </p:nvSpPr>
        <p:spPr>
          <a:xfrm rot="1642800">
            <a:off x="2771280" y="4076280"/>
            <a:ext cx="1295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9"/>
          <p:cNvSpPr/>
          <p:nvPr/>
        </p:nvSpPr>
        <p:spPr>
          <a:xfrm rot="19344000">
            <a:off x="5363640" y="3499920"/>
            <a:ext cx="236880" cy="271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 rot="17877000">
            <a:off x="4261680" y="5180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1"/>
          <p:cNvSpPr/>
          <p:nvPr/>
        </p:nvSpPr>
        <p:spPr>
          <a:xfrm rot="19344000">
            <a:off x="4572000" y="3212640"/>
            <a:ext cx="22212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 rot="17877000">
            <a:off x="7058880" y="6505920"/>
            <a:ext cx="322200" cy="3366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 rot="17877000">
            <a:off x="4620240" y="4820040"/>
            <a:ext cx="255600" cy="209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 rot="17877000">
            <a:off x="5053680" y="4964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51"/>
          <p:cNvSpPr/>
          <p:nvPr/>
        </p:nvSpPr>
        <p:spPr>
          <a:xfrm rot="19504800">
            <a:off x="2817360" y="4855680"/>
            <a:ext cx="101772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51"/>
          <p:cNvSpPr/>
          <p:nvPr/>
        </p:nvSpPr>
        <p:spPr>
          <a:xfrm rot="17682000">
            <a:off x="5118480" y="2073600"/>
            <a:ext cx="576360" cy="279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Прямоугольник 51"/>
          <p:cNvSpPr/>
          <p:nvPr/>
        </p:nvSpPr>
        <p:spPr>
          <a:xfrm rot="773400">
            <a:off x="7164360" y="191592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51"/>
          <p:cNvSpPr/>
          <p:nvPr/>
        </p:nvSpPr>
        <p:spPr>
          <a:xfrm rot="17916000">
            <a:off x="2646360" y="499392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 51"/>
          <p:cNvSpPr/>
          <p:nvPr/>
        </p:nvSpPr>
        <p:spPr>
          <a:xfrm rot="17916000">
            <a:off x="4878000" y="4922640"/>
            <a:ext cx="17496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51"/>
          <p:cNvSpPr/>
          <p:nvPr/>
        </p:nvSpPr>
        <p:spPr>
          <a:xfrm rot="19504800">
            <a:off x="3058920" y="5157360"/>
            <a:ext cx="101736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81"/>
          <p:cNvSpPr/>
          <p:nvPr/>
        </p:nvSpPr>
        <p:spPr>
          <a:xfrm rot="17609400">
            <a:off x="8221320" y="6330960"/>
            <a:ext cx="333360" cy="720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2"/>
          <p:cNvSpPr/>
          <p:nvPr/>
        </p:nvSpPr>
        <p:spPr>
          <a:xfrm rot="16793400">
            <a:off x="5013720" y="1361160"/>
            <a:ext cx="21600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83"/>
          <p:cNvSpPr/>
          <p:nvPr/>
        </p:nvSpPr>
        <p:spPr>
          <a:xfrm rot="16793400">
            <a:off x="3846240" y="974520"/>
            <a:ext cx="230400" cy="785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51"/>
          <p:cNvSpPr/>
          <p:nvPr/>
        </p:nvSpPr>
        <p:spPr>
          <a:xfrm rot="16200000">
            <a:off x="3012480" y="1099440"/>
            <a:ext cx="372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51"/>
          <p:cNvSpPr/>
          <p:nvPr/>
        </p:nvSpPr>
        <p:spPr>
          <a:xfrm rot="16934400">
            <a:off x="3036240" y="1506960"/>
            <a:ext cx="32544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51"/>
          <p:cNvSpPr/>
          <p:nvPr/>
        </p:nvSpPr>
        <p:spPr>
          <a:xfrm rot="17285400">
            <a:off x="2712960" y="1992240"/>
            <a:ext cx="71928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51"/>
          <p:cNvSpPr/>
          <p:nvPr/>
        </p:nvSpPr>
        <p:spPr>
          <a:xfrm rot="464400">
            <a:off x="4356000" y="132552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51"/>
          <p:cNvSpPr/>
          <p:nvPr/>
        </p:nvSpPr>
        <p:spPr>
          <a:xfrm rot="2931600">
            <a:off x="7306920" y="6653160"/>
            <a:ext cx="201600" cy="208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51"/>
          <p:cNvSpPr/>
          <p:nvPr/>
        </p:nvSpPr>
        <p:spPr>
          <a:xfrm rot="1560000">
            <a:off x="4405320" y="5533560"/>
            <a:ext cx="1647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51"/>
          <p:cNvSpPr/>
          <p:nvPr/>
        </p:nvSpPr>
        <p:spPr>
          <a:xfrm rot="1597800">
            <a:off x="5300280" y="5243040"/>
            <a:ext cx="86688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1"/>
          <p:cNvSpPr/>
          <p:nvPr/>
        </p:nvSpPr>
        <p:spPr>
          <a:xfrm rot="17671200">
            <a:off x="4088520" y="5712480"/>
            <a:ext cx="218880" cy="261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51"/>
          <p:cNvSpPr/>
          <p:nvPr/>
        </p:nvSpPr>
        <p:spPr>
          <a:xfrm rot="17916000">
            <a:off x="3943440" y="593064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51"/>
          <p:cNvSpPr/>
          <p:nvPr/>
        </p:nvSpPr>
        <p:spPr>
          <a:xfrm rot="1404000">
            <a:off x="6199200" y="616896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1"/>
          <p:cNvSpPr/>
          <p:nvPr/>
        </p:nvSpPr>
        <p:spPr>
          <a:xfrm rot="1408800">
            <a:off x="6662520" y="6103800"/>
            <a:ext cx="138564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51"/>
          <p:cNvSpPr/>
          <p:nvPr/>
        </p:nvSpPr>
        <p:spPr>
          <a:xfrm rot="14188200">
            <a:off x="4915440" y="3011760"/>
            <a:ext cx="365040" cy="189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51"/>
          <p:cNvSpPr/>
          <p:nvPr/>
        </p:nvSpPr>
        <p:spPr>
          <a:xfrm rot="18075000">
            <a:off x="3626640" y="3508920"/>
            <a:ext cx="65232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99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0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101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2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3"/>
          <p:cNvSpPr/>
          <p:nvPr/>
        </p:nvSpPr>
        <p:spPr>
          <a:xfrm rot="18093600">
            <a:off x="3624480" y="3511080"/>
            <a:ext cx="66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 83  83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4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Прямоугольник 51"/>
          <p:cNvSpPr/>
          <p:nvPr/>
        </p:nvSpPr>
        <p:spPr>
          <a:xfrm rot="16905000">
            <a:off x="3141360" y="2039400"/>
            <a:ext cx="647640" cy="2538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7"/>
          <p:cNvSpPr/>
          <p:nvPr/>
        </p:nvSpPr>
        <p:spPr>
          <a:xfrm rot="1470600">
            <a:off x="4322520" y="5288040"/>
            <a:ext cx="196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Ул.Октябрьск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11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05"/>
          <p:cNvSpPr/>
          <p:nvPr/>
        </p:nvSpPr>
        <p:spPr>
          <a:xfrm flipH="1">
            <a:off x="539640" y="4221000"/>
            <a:ext cx="1657440" cy="503280"/>
          </a:xfrm>
          <a:prstGeom prst="wedgeRectCallout">
            <a:avLst>
              <a:gd name="adj1" fmla="val 10439"/>
              <a:gd name="adj2" fmla="val 32518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Будённого,                   около до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 55"/>
          <p:cNvSpPr/>
          <p:nvPr/>
        </p:nvSpPr>
        <p:spPr>
          <a:xfrm flipV="1" rot="5477400">
            <a:off x="879840" y="6543720"/>
            <a:ext cx="111240" cy="745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8800" bIns="28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 55"/>
          <p:cNvSpPr/>
          <p:nvPr/>
        </p:nvSpPr>
        <p:spPr>
          <a:xfrm rot="5476800">
            <a:off x="1150200" y="6131520"/>
            <a:ext cx="145800" cy="6840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" bIns="226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 55"/>
          <p:cNvSpPr/>
          <p:nvPr/>
        </p:nvSpPr>
        <p:spPr>
          <a:xfrm flipV="1" rot="6945600">
            <a:off x="714960" y="585756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85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 rot="453600">
            <a:off x="6443640" y="4149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532720" y="342900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8820000" y="270828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51"/>
          <p:cNvSpPr/>
          <p:nvPr/>
        </p:nvSpPr>
        <p:spPr>
          <a:xfrm rot="11240400">
            <a:off x="8748720" y="3429000"/>
            <a:ext cx="201600" cy="179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55"/>
          <p:cNvSpPr/>
          <p:nvPr/>
        </p:nvSpPr>
        <p:spPr>
          <a:xfrm flipV="1" rot="331800">
            <a:off x="7236000" y="2420280"/>
            <a:ext cx="126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55"/>
          <p:cNvSpPr/>
          <p:nvPr/>
        </p:nvSpPr>
        <p:spPr>
          <a:xfrm flipV="1" rot="331800">
            <a:off x="7451640" y="2421000"/>
            <a:ext cx="12708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1"/>
          <p:cNvSpPr/>
          <p:nvPr/>
        </p:nvSpPr>
        <p:spPr>
          <a:xfrm rot="761400">
            <a:off x="4066560" y="155700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6  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2"/>
          <p:cNvSpPr/>
          <p:nvPr/>
        </p:nvSpPr>
        <p:spPr>
          <a:xfrm rot="474000">
            <a:off x="4066920" y="119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7   5  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5"/>
          <p:cNvSpPr/>
          <p:nvPr/>
        </p:nvSpPr>
        <p:spPr>
          <a:xfrm rot="813600">
            <a:off x="3416040" y="104148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6"/>
          <p:cNvSpPr/>
          <p:nvPr/>
        </p:nvSpPr>
        <p:spPr>
          <a:xfrm rot="819000">
            <a:off x="3204000" y="134100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7"/>
          <p:cNvSpPr/>
          <p:nvPr/>
        </p:nvSpPr>
        <p:spPr>
          <a:xfrm rot="494400">
            <a:off x="6606720" y="4941360"/>
            <a:ext cx="2376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8"/>
          <p:cNvSpPr/>
          <p:nvPr/>
        </p:nvSpPr>
        <p:spPr>
          <a:xfrm rot="453600">
            <a:off x="752472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9"/>
          <p:cNvSpPr/>
          <p:nvPr/>
        </p:nvSpPr>
        <p:spPr>
          <a:xfrm rot="453600">
            <a:off x="6875640" y="4795920"/>
            <a:ext cx="142560" cy="1411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0"/>
          <p:cNvSpPr/>
          <p:nvPr/>
        </p:nvSpPr>
        <p:spPr>
          <a:xfrm rot="453600">
            <a:off x="709308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1"/>
          <p:cNvSpPr/>
          <p:nvPr/>
        </p:nvSpPr>
        <p:spPr>
          <a:xfrm rot="453600">
            <a:off x="7308720" y="4868640"/>
            <a:ext cx="14472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2"/>
          <p:cNvSpPr/>
          <p:nvPr/>
        </p:nvSpPr>
        <p:spPr>
          <a:xfrm rot="453600">
            <a:off x="6227640" y="407628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3"/>
          <p:cNvSpPr/>
          <p:nvPr/>
        </p:nvSpPr>
        <p:spPr>
          <a:xfrm rot="453600">
            <a:off x="7740720" y="4941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4"/>
          <p:cNvSpPr/>
          <p:nvPr/>
        </p:nvSpPr>
        <p:spPr>
          <a:xfrm flipV="1" rot="454200">
            <a:off x="8172360" y="5083920"/>
            <a:ext cx="360360" cy="1450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5"/>
          <p:cNvSpPr/>
          <p:nvPr/>
        </p:nvSpPr>
        <p:spPr>
          <a:xfrm rot="453600">
            <a:off x="7956720" y="501300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6"/>
          <p:cNvSpPr/>
          <p:nvPr/>
        </p:nvSpPr>
        <p:spPr>
          <a:xfrm rot="453600">
            <a:off x="8604360" y="5157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7"/>
          <p:cNvSpPr/>
          <p:nvPr/>
        </p:nvSpPr>
        <p:spPr>
          <a:xfrm rot="453600">
            <a:off x="8820000" y="515736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9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0"/>
          <p:cNvSpPr/>
          <p:nvPr/>
        </p:nvSpPr>
        <p:spPr>
          <a:xfrm rot="622200">
            <a:off x="7235640" y="522900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.Южна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55"/>
          <p:cNvSpPr/>
          <p:nvPr/>
        </p:nvSpPr>
        <p:spPr>
          <a:xfrm rot="679200">
            <a:off x="7019640" y="2420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4"/>
          <p:cNvSpPr/>
          <p:nvPr/>
        </p:nvSpPr>
        <p:spPr>
          <a:xfrm flipH="1">
            <a:off x="2915640" y="2637000"/>
            <a:ext cx="1152360" cy="718920"/>
          </a:xfrm>
          <a:prstGeom prst="wedgeRectCallout">
            <a:avLst>
              <a:gd name="adj1" fmla="val -314328"/>
              <a:gd name="adj2" fmla="val -68546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 ,около 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РАЗМЕЩЕНИЯ НЕСТАЦИОНАРНЫ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РГОВЫХ ОБЪЕКТОВ НА  ТЕРРИТОР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55"/>
          <p:cNvSpPr/>
          <p:nvPr/>
        </p:nvSpPr>
        <p:spPr>
          <a:xfrm rot="2034000">
            <a:off x="8291160" y="2025720"/>
            <a:ext cx="46080" cy="44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5"/>
          <p:cNvSpPr/>
          <p:nvPr/>
        </p:nvSpPr>
        <p:spPr>
          <a:xfrm rot="2034000">
            <a:off x="7821720" y="1780920"/>
            <a:ext cx="46080" cy="460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 flipH="1">
            <a:off x="4715640" y="3429000"/>
            <a:ext cx="1584360" cy="649440"/>
          </a:xfrm>
          <a:prstGeom prst="wedgeRectCallout">
            <a:avLst>
              <a:gd name="adj1" fmla="val -145592"/>
              <a:gd name="adj2" fmla="val -29890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92000" y="228600"/>
            <a:ext cx="756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86" descr=""/>
          <p:cNvPicPr/>
          <p:nvPr/>
        </p:nvPicPr>
        <p:blipFill>
          <a:blip r:embed="rId1"/>
          <a:stretch/>
        </p:blipFill>
        <p:spPr>
          <a:xfrm>
            <a:off x="0" y="1052640"/>
            <a:ext cx="9323280" cy="5805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8"/>
          <p:cNvSpPr/>
          <p:nvPr/>
        </p:nvSpPr>
        <p:spPr>
          <a:xfrm>
            <a:off x="1042920" y="1413000"/>
            <a:ext cx="57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9"/>
          <p:cNvSpPr/>
          <p:nvPr/>
        </p:nvSpPr>
        <p:spPr>
          <a:xfrm>
            <a:off x="104292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55"/>
          <p:cNvSpPr/>
          <p:nvPr/>
        </p:nvSpPr>
        <p:spPr>
          <a:xfrm rot="679200">
            <a:off x="6876720" y="2636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93"/>
          <p:cNvSpPr/>
          <p:nvPr/>
        </p:nvSpPr>
        <p:spPr>
          <a:xfrm flipH="1">
            <a:off x="2700360" y="2421000"/>
            <a:ext cx="1440000" cy="431640"/>
          </a:xfrm>
          <a:prstGeom prst="wedgeRectCallout">
            <a:avLst>
              <a:gd name="adj1" fmla="val -239199"/>
              <a:gd name="adj2" fmla="val 26101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50 лет Октября  ,около дома 30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53"/>
          <p:cNvSpPr/>
          <p:nvPr/>
        </p:nvSpPr>
        <p:spPr>
          <a:xfrm rot="1105800">
            <a:off x="7380360" y="3645000"/>
            <a:ext cx="144360" cy="7128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3"/>
          <p:cNvSpPr/>
          <p:nvPr/>
        </p:nvSpPr>
        <p:spPr>
          <a:xfrm rot="1105800">
            <a:off x="7667640" y="3716280"/>
            <a:ext cx="144360" cy="7164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5"/>
          <p:cNvSpPr/>
          <p:nvPr/>
        </p:nvSpPr>
        <p:spPr>
          <a:xfrm rot="691800">
            <a:off x="7313400" y="3565080"/>
            <a:ext cx="215640" cy="79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5"/>
          <p:cNvSpPr/>
          <p:nvPr/>
        </p:nvSpPr>
        <p:spPr>
          <a:xfrm rot="403200">
            <a:off x="7596360" y="3645000"/>
            <a:ext cx="215640" cy="950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5"/>
          <p:cNvSpPr/>
          <p:nvPr/>
        </p:nvSpPr>
        <p:spPr>
          <a:xfrm rot="679200">
            <a:off x="2123640" y="213336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55"/>
          <p:cNvSpPr/>
          <p:nvPr/>
        </p:nvSpPr>
        <p:spPr>
          <a:xfrm rot="679200">
            <a:off x="178920" y="184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"/>
          <p:cNvSpPr/>
          <p:nvPr/>
        </p:nvSpPr>
        <p:spPr>
          <a:xfrm>
            <a:off x="0" y="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7"/>
          <p:cNvSpPr/>
          <p:nvPr/>
        </p:nvSpPr>
        <p:spPr>
          <a:xfrm flipH="1">
            <a:off x="1979640" y="2997360"/>
            <a:ext cx="1224000" cy="647640"/>
          </a:xfrm>
          <a:prstGeom prst="wedgeRectCallout">
            <a:avLst>
              <a:gd name="adj1" fmla="val 195004"/>
              <a:gd name="adj2" fmla="val -218629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13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8"/>
          <p:cNvSpPr/>
          <p:nvPr/>
        </p:nvSpPr>
        <p:spPr>
          <a:xfrm flipH="1">
            <a:off x="2411280" y="1268280"/>
            <a:ext cx="1440000" cy="432000"/>
          </a:xfrm>
          <a:prstGeom prst="wedgeRectCallout">
            <a:avLst>
              <a:gd name="adj1" fmla="val 61462"/>
              <a:gd name="adj2" fmla="val 155143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около дома 42 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4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7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98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1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04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5"/>
          <p:cNvSpPr/>
          <p:nvPr/>
        </p:nvSpPr>
        <p:spPr>
          <a:xfrm rot="679200">
            <a:off x="7524360" y="652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6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7"/>
          <p:cNvSpPr/>
          <p:nvPr/>
        </p:nvSpPr>
        <p:spPr>
          <a:xfrm flipH="1">
            <a:off x="5724360" y="2997360"/>
            <a:ext cx="1656000" cy="431640"/>
          </a:xfrm>
          <a:prstGeom prst="wedgeRectCallout">
            <a:avLst>
              <a:gd name="adj1" fmla="val -64574"/>
              <a:gd name="adj2" fmla="val 76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Октябрьская 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0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5"/>
          <p:cNvSpPr/>
          <p:nvPr/>
        </p:nvSpPr>
        <p:spPr>
          <a:xfrm flipH="1">
            <a:off x="610560" y="2637000"/>
            <a:ext cx="1657080" cy="863280"/>
          </a:xfrm>
          <a:prstGeom prst="wedgeRectCallout">
            <a:avLst>
              <a:gd name="adj1" fmla="val 50287"/>
              <a:gd name="adj2" fmla="val 35459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1»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ерритория ОАО»Верхнехавский элеватор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7"/>
          <p:cNvSpPr/>
          <p:nvPr/>
        </p:nvSpPr>
        <p:spPr>
          <a:xfrm flipH="1" flipV="1">
            <a:off x="2771280" y="5516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8"/>
          <p:cNvSpPr/>
          <p:nvPr/>
        </p:nvSpPr>
        <p:spPr>
          <a:xfrm flipH="1" flipV="1">
            <a:off x="2771640" y="5734080"/>
            <a:ext cx="432144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178920" y="551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5"/>
          <p:cNvSpPr/>
          <p:nvPr/>
        </p:nvSpPr>
        <p:spPr>
          <a:xfrm rot="16200000">
            <a:off x="24480" y="6031080"/>
            <a:ext cx="50940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55"/>
          <p:cNvSpPr/>
          <p:nvPr/>
        </p:nvSpPr>
        <p:spPr>
          <a:xfrm rot="1108800">
            <a:off x="6084720" y="6021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55"/>
          <p:cNvSpPr/>
          <p:nvPr/>
        </p:nvSpPr>
        <p:spPr>
          <a:xfrm rot="17358000">
            <a:off x="5176800" y="5704920"/>
            <a:ext cx="43164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55"/>
          <p:cNvSpPr/>
          <p:nvPr/>
        </p:nvSpPr>
        <p:spPr>
          <a:xfrm rot="1108800">
            <a:off x="6676920" y="5532480"/>
            <a:ext cx="144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55"/>
          <p:cNvSpPr/>
          <p:nvPr/>
        </p:nvSpPr>
        <p:spPr>
          <a:xfrm rot="17583000">
            <a:off x="6301080" y="508392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55"/>
          <p:cNvSpPr/>
          <p:nvPr/>
        </p:nvSpPr>
        <p:spPr>
          <a:xfrm rot="1160400">
            <a:off x="7020000" y="522900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55"/>
          <p:cNvSpPr/>
          <p:nvPr/>
        </p:nvSpPr>
        <p:spPr>
          <a:xfrm rot="17360400">
            <a:off x="5509080" y="594900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55"/>
          <p:cNvSpPr/>
          <p:nvPr/>
        </p:nvSpPr>
        <p:spPr>
          <a:xfrm>
            <a:off x="395280" y="6453360"/>
            <a:ext cx="93672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5"/>
          <p:cNvSpPr/>
          <p:nvPr/>
        </p:nvSpPr>
        <p:spPr>
          <a:xfrm>
            <a:off x="2124000" y="623736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55"/>
          <p:cNvSpPr/>
          <p:nvPr/>
        </p:nvSpPr>
        <p:spPr>
          <a:xfrm>
            <a:off x="2124000" y="5805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55"/>
          <p:cNvSpPr/>
          <p:nvPr/>
        </p:nvSpPr>
        <p:spPr>
          <a:xfrm rot="885600">
            <a:off x="2771280" y="595008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55"/>
          <p:cNvSpPr/>
          <p:nvPr/>
        </p:nvSpPr>
        <p:spPr>
          <a:xfrm rot="945000">
            <a:off x="3419640" y="609264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55"/>
          <p:cNvSpPr/>
          <p:nvPr/>
        </p:nvSpPr>
        <p:spPr>
          <a:xfrm rot="937200">
            <a:off x="4211640" y="6381720"/>
            <a:ext cx="1773360" cy="1951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27"/>
          <p:cNvSpPr/>
          <p:nvPr/>
        </p:nvSpPr>
        <p:spPr>
          <a:xfrm flipH="1">
            <a:off x="1907640" y="573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190800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29"/>
          <p:cNvSpPr/>
          <p:nvPr/>
        </p:nvSpPr>
        <p:spPr>
          <a:xfrm>
            <a:off x="169236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0"/>
          <p:cNvSpPr/>
          <p:nvPr/>
        </p:nvSpPr>
        <p:spPr>
          <a:xfrm flipH="1">
            <a:off x="178920" y="573408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90800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8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9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0"/>
          <p:cNvSpPr/>
          <p:nvPr/>
        </p:nvSpPr>
        <p:spPr>
          <a:xfrm flipH="1">
            <a:off x="5434920" y="1916280"/>
            <a:ext cx="1655640" cy="431640"/>
          </a:xfrm>
          <a:prstGeom prst="wedgeRectCallout">
            <a:avLst>
              <a:gd name="adj1" fmla="val -103884"/>
              <a:gd name="adj2" fmla="val 44117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Маяковского , напротив дома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55"/>
          <p:cNvSpPr/>
          <p:nvPr/>
        </p:nvSpPr>
        <p:spPr>
          <a:xfrm rot="1776000">
            <a:off x="8008560" y="3927240"/>
            <a:ext cx="162000" cy="179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8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04" name="Rectangle 83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84"/>
          <p:cNvSpPr/>
          <p:nvPr/>
        </p:nvSpPr>
        <p:spPr>
          <a:xfrm flipH="1">
            <a:off x="4859280" y="1557360"/>
            <a:ext cx="1727280" cy="720720"/>
          </a:xfrm>
          <a:prstGeom prst="wedgeRectCallout">
            <a:avLst>
              <a:gd name="adj1" fmla="val 149537"/>
              <a:gd name="adj2" fmla="val 14030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олнечная,около дома 2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ересечение ул.Солнечная и Карла Маркс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55"/>
          <p:cNvSpPr/>
          <p:nvPr/>
        </p:nvSpPr>
        <p:spPr>
          <a:xfrm rot="679200">
            <a:off x="2987280" y="2852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admin</cp:lastModifiedBy>
  <dcterms:modified xsi:type="dcterms:W3CDTF">2016-12-07T07:42:48Z</dcterms:modified>
  <cp:revision>155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